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wmf" ContentType="image/x-wmf"/>
  <Override PartName="/ppt/media/image2.png" ContentType="image/png"/>
  <Override PartName="/ppt/media/image1.png" ContentType="image/png"/>
  <Override PartName="/ppt/media/image14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E254-D125-41C7-81D5-D102DAAF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AAE-6003-40DE-944C-01FC845E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35E-C88C-401E-9E8F-1086AFF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6CC-9260-4126-840A-2E7A429E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0D0-2BE9-49ED-871B-199DA2F9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2B6-F7EB-4F8D-A3EE-6548BD8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CA4-69CB-4C2B-88D9-85684F5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41E-68DA-4E26-AFFC-2753D8E4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86B-1FD0-4CA9-B9DD-CF6288E8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B61-B806-4983-936B-29FBEC6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DE3-7CFE-4CE8-AAF2-F0A4F82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3F2-5279-4FA2-BE6B-BC9488C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573-9CBB-4779-8ADC-F2CD1BF4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0015-4E93-4232-892B-28769857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Random Variab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92280" y="46044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File:Binomial distribution pmf.svg"/>
          <p:cNvPicPr/>
          <p:nvPr/>
        </p:nvPicPr>
        <p:blipFill>
          <a:blip r:embed="rId1"/>
          <a:stretch/>
        </p:blipFill>
        <p:spPr>
          <a:xfrm>
            <a:off x="4572000" y="1066680"/>
            <a:ext cx="4133880" cy="275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File:Binomial distribution cdf.svg"/>
          <p:cNvPicPr/>
          <p:nvPr/>
        </p:nvPicPr>
        <p:blipFill>
          <a:blip r:embed="rId2"/>
          <a:stretch/>
        </p:blipFill>
        <p:spPr>
          <a:xfrm>
            <a:off x="4495680" y="392436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018200" y="35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8200" y="664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8040" y="2438280"/>
            <a:ext cx="238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n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438120" y="5181480"/>
            <a:ext cx="37530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 f(k;n,p) = \Pr(K = k) = {n\choose k}p^k(1-p)^{n-k}"/>
          <p:cNvPicPr/>
          <p:nvPr/>
        </p:nvPicPr>
        <p:blipFill>
          <a:blip r:embed="rId4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90480" y="4604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066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tosses until you get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51240" y="5943600"/>
            <a:ext cx="5321160" cy="495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4016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4016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4300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860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9120" y="367344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2160" y="4511520"/>
            <a:ext cx="912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0848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0848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113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869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32920" y="3673440"/>
            <a:ext cx="110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55880" y="4511520"/>
            <a:ext cx="117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43080" y="2682720"/>
            <a:ext cx="128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12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17520" y="2666880"/>
            <a:ext cx="109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8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172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1720" y="329220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149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905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79640" y="3673440"/>
            <a:ext cx="1275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65600" y="4511520"/>
            <a:ext cx="134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1720" y="2682720"/>
            <a:ext cx="1382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3320" y="2475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5440" y="487692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0800" y="46044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685800"/>
            <a:ext cx="6629400" cy="4038480"/>
            <a:chOff x="5715000" y="685800"/>
            <a:chExt cx="6629400" cy="4038480"/>
          </a:xfrm>
        </p:grpSpPr>
        <p:pic>
          <p:nvPicPr>
            <p:cNvPr id="268" name="" descr="File:Geometric pmf.svg"/>
            <p:cNvPicPr/>
            <p:nvPr/>
          </p:nvPicPr>
          <p:blipFill>
            <a:blip r:embed="rId1"/>
            <a:stretch/>
          </p:blipFill>
          <p:spPr>
            <a:xfrm>
              <a:off x="5715000" y="1218960"/>
              <a:ext cx="6429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915400" y="685800"/>
              <a:ext cx="3429000" cy="40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 f(k;n,p) = \Pr(K = k) = {n\choose k}p^k(1-p)^{n-k}"/>
          <p:cNvPicPr/>
          <p:nvPr/>
        </p:nvPicPr>
        <p:blipFill>
          <a:blip r:embed="rId2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533520" y="4572000"/>
            <a:ext cx="3752640" cy="514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3880" y="457200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167652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(1 - p)^{k-1}\,p\!"/>
          <p:cNvPicPr/>
          <p:nvPr/>
        </p:nvPicPr>
        <p:blipFill>
          <a:blip r:embed="rId4"/>
          <a:stretch/>
        </p:blipFill>
        <p:spPr>
          <a:xfrm>
            <a:off x="1523880" y="1905120"/>
            <a:ext cx="933480" cy="21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1-(1 - p)^k\!"/>
          <p:cNvPicPr/>
          <p:nvPr/>
        </p:nvPicPr>
        <p:blipFill>
          <a:blip r:embed="rId5"/>
          <a:stretch/>
        </p:blipFill>
        <p:spPr>
          <a:xfrm>
            <a:off x="1676520" y="4724280"/>
            <a:ext cx="961920" cy="2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Geometric cdf.svg"/>
          <p:cNvPicPr/>
          <p:nvPr/>
        </p:nvPicPr>
        <p:blipFill>
          <a:blip r:embed="rId6"/>
          <a:stretch/>
        </p:blipFill>
        <p:spPr>
          <a:xfrm>
            <a:off x="5791320" y="4257720"/>
            <a:ext cx="6095880" cy="26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4267080"/>
            <a:ext cx="34290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\frac{1-p}{p^2}\!"/>
          <p:cNvPicPr/>
          <p:nvPr/>
        </p:nvPicPr>
        <p:blipFill>
          <a:blip r:embed="rId7"/>
          <a:stretch/>
        </p:blipFill>
        <p:spPr>
          <a:xfrm>
            <a:off x="2400480" y="3200400"/>
            <a:ext cx="419040" cy="4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\frac{1}{p}\!"/>
          <p:cNvPicPr/>
          <p:nvPr/>
        </p:nvPicPr>
        <p:blipFill>
          <a:blip r:embed="rId8"/>
          <a:stretch/>
        </p:blipFill>
        <p:spPr>
          <a:xfrm>
            <a:off x="1600200" y="2514600"/>
            <a:ext cx="104760" cy="428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62840" y="25146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4280" y="32004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2644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566040" cy="52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371600" y="4719600"/>
            <a:ext cx="36576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156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4920" y="556272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64040" y="46044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ce of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66720" y="1371600"/>
            <a:ext cx="7105680" cy="866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480" y="3871800"/>
            <a:ext cx="5626080" cy="484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95360" y="4303800"/>
            <a:ext cx="7810560" cy="649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8153640" cy="644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09480" y="3040200"/>
            <a:ext cx="78487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59360" y="460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4880" y="1143000"/>
            <a:ext cx="59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it mean for 2 experiments to be independ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0160" y="1995480"/>
            <a:ext cx="70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derive the properties of binomial random variable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oulli random variabl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920" y="460440"/>
            <a:ext cx="59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PMFs of more than on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conditional P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20976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78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33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5238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4*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H – E(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          1 if H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if H &g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2286000"/>
            <a:ext cx="533520" cy="609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82296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57400"/>
            <a:ext cx="8229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(X – E(X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3809880" cy="6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3680" y="4049640"/>
            <a:ext cx="38480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60640" y="144792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80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 =         1 if h &lt;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f h &gt;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H) = 1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Y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65960" y="160020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1371600"/>
            <a:ext cx="533160" cy="609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799160"/>
            <a:ext cx="7010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for any var.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unc. g(X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 = g(X): E(Y) = ∑ [ g(X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292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720" y="4604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828800"/>
            <a:ext cx="16002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6216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276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980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39760" y="22860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008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3809880"/>
            <a:ext cx="55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xperiments with 2 possible outcom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a person healthy or s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you like a song on pandora.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ll event A occur or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8840" y="194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48480" y="191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9200" y="1865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296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33560" y="41148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1)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33560" y="45100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0) = 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2640" y="46044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7057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66688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44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188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724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42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371600"/>
            <a:ext cx="22860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58360" y="79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4320" y="1843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8560" y="18432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6480" y="27795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5240" y="3519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1840" y="27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5560" y="3519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960" y="420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05720" y="39765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580536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4400" y="56530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1880" y="61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7240" y="6186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504280" y="56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4114800"/>
            <a:ext cx="228600" cy="1690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42448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58360" y="393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74320" y="4981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3360" y="46044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3396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343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200" y="1019160"/>
            <a:ext cx="27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344016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31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934320" y="22968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2400" y="2373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2760" y="2155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0320" y="2895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2678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4032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06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40320" y="3962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0680" y="3745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40320" y="4506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0680" y="4289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40320" y="5105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40680" y="4888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40320" y="5649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40680" y="5432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40320" y="624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40680" y="603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24494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1200" y="2308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34320" y="28191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971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2830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934320" y="3363840"/>
            <a:ext cx="272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51648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1200" y="337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38970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49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390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34320" y="44193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5720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31200" y="4430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34320" y="5028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81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0840" y="5040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934320" y="557352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72616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1200" y="5584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4320" y="6171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6324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0840" y="6183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248520" y="5725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37120" y="5878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4888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48520" y="4582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37480" y="4735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3821040"/>
            <a:ext cx="372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80120" y="35164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720" y="3668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754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48520" y="2449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7480" y="2602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81480" y="2830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336384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181480" y="496404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4975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2040" y="5345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443088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83120" y="21337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86000" y="236232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8600" y="26668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8240" y="28954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8600" y="32004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98240" y="34290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8240" y="3733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7880" y="3962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6000" y="42670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8880" y="44956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01480" y="4876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00760" y="5105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01480" y="54100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00760" y="56386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00760" y="60199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00400" y="62485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476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7600" y="40384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120" y="54259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9400" y="243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2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400" y="2681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5360" y="351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8880" y="5043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188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1880" y="3657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836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943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172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20064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58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8486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20000" y="58690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C k)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2438280"/>
            <a:ext cx="33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7/128 = 0.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6480" y="2681280"/>
            <a:ext cx="34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8/256 = 0.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56440" y="6248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592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8012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65920" y="1981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29718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58200" y="3809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4952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58200" y="54864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2:18:49Z</dcterms:created>
  <dc:creator>Ben</dc:creator>
  <dc:description/>
  <dc:language>en-US</dc:language>
  <cp:lastModifiedBy>Ben</cp:lastModifiedBy>
  <dcterms:modified xsi:type="dcterms:W3CDTF">2010-12-01T03:25:42Z</dcterms:modified>
  <cp:revision>150</cp:revision>
  <dc:subject/>
  <dc:title>Discrete Random Variables 2</dc:title>
</cp:coreProperties>
</file>